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321F-9C95-4D95-8AE8-D1F6385AC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DCA1-2980-4808-8EEC-3D0611E8A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AF9A-2DA9-495A-89E5-FAE9259D1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B4CA-9444-4540-913B-77DA10C8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0ECF-AF5B-4E68-8237-437B7034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28BC-9859-49EF-9EC8-22C07A83A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1582-3B29-46D2-8DE4-DF31AEF0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0F23-7CFF-47DA-B55A-7140EDC7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76C3-AB3C-4B70-9132-96A9952B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821A-0E50-4F26-A8E7-4DB32BEC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D3B6-C004-4698-8909-731FE61E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F4E2-4D7A-4CBA-BE85-31EA2F02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5A8C-126E-423B-8AEB-1DA67DEE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D340-F391-425E-A91C-6C3A6EFD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BE8E-96EF-4272-8C6B-D94EC4CB5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oran Om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Noran O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Noran Omar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Noran Omar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Noran Oma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8006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7"/>
          <p:cNvSpPr/>
          <p:nvPr/>
        </p:nvSpPr>
        <p:spPr>
          <a:xfrm>
            <a:off x="2971800" y="3886200"/>
            <a:ext cx="358128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nemos una fiesta quieres venir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 guesta:     </a:t>
            </a:r>
            <a:r>
              <a:rPr b="0" lang="es-ES_tradnl" sz="8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7"/>
          <p:cNvSpPr/>
          <p:nvPr/>
        </p:nvSpPr>
        <p:spPr>
          <a:xfrm>
            <a:off x="2743200" y="3200400"/>
            <a:ext cx="380988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Adam Saleh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hermosa noche buena !!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¿quieres comer mañan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2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7"/>
          <p:cNvSpPr/>
          <p:nvPr/>
        </p:nvSpPr>
        <p:spPr>
          <a:xfrm>
            <a:off x="2743200" y="4572000"/>
            <a:ext cx="403848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Despertarse     Despertarse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2666880" y="5181480"/>
            <a:ext cx="4496040" cy="6858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Sara Yousef …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¿buenos días nora ?…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743200" y="5943600"/>
            <a:ext cx="4191120" cy="6094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6"/>
          <p:cNvSpPr/>
          <p:nvPr/>
        </p:nvSpPr>
        <p:spPr>
          <a:xfrm>
            <a:off x="281952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é tal mi amiga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152280" y="3581280"/>
            <a:ext cx="144792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Mi nombre es Noran Omar. Yo vivo en Astoria. Tengo cotorce años. 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tengo 2 hermanas. Yo soy de Egipto y Morroc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2133720" cy="1981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2362320" y="3886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3"/>
          <a:stretch/>
        </p:blipFill>
        <p:spPr>
          <a:xfrm>
            <a:off x="2362320" y="44956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4"/>
          <a:stretch/>
        </p:blipFill>
        <p:spPr>
          <a:xfrm>
            <a:off x="1143000" y="50292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0" y="5638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ysha tur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609480" y="5715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iovanna Cont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1219320" y="5715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ra Youse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"/>
          <p:cNvPicPr/>
          <p:nvPr/>
        </p:nvPicPr>
        <p:blipFill>
          <a:blip r:embed="rId5"/>
          <a:stretch/>
        </p:blipFill>
        <p:spPr>
          <a:xfrm>
            <a:off x="17524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97" name="TextBox 11"/>
          <p:cNvSpPr/>
          <p:nvPr/>
        </p:nvSpPr>
        <p:spPr>
          <a:xfrm>
            <a:off x="1828800" y="5715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hadijaa Zulfiqu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2" descr=""/>
          <p:cNvPicPr/>
          <p:nvPr/>
        </p:nvPicPr>
        <p:blipFill>
          <a:blip r:embed="rId6"/>
          <a:stretch/>
        </p:blipFill>
        <p:spPr>
          <a:xfrm>
            <a:off x="2362320" y="2438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7"/>
          <a:stretch/>
        </p:blipFill>
        <p:spPr>
          <a:xfrm>
            <a:off x="2362320" y="3124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8"/>
          <a:stretch/>
        </p:blipFill>
        <p:spPr>
          <a:xfrm>
            <a:off x="0" y="5029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9"/>
          <a:stretch/>
        </p:blipFill>
        <p:spPr>
          <a:xfrm>
            <a:off x="609480" y="50292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10"/>
          <a:stretch/>
        </p:blipFill>
        <p:spPr>
          <a:xfrm>
            <a:off x="2438280" y="52578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"/>
          <p:cNvPicPr/>
          <p:nvPr/>
        </p:nvPicPr>
        <p:blipFill>
          <a:blip r:embed="rId11"/>
          <a:stretch/>
        </p:blipFill>
        <p:spPr>
          <a:xfrm>
            <a:off x="-12600" y="6019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"/>
          <p:cNvSpPr/>
          <p:nvPr/>
        </p:nvSpPr>
        <p:spPr>
          <a:xfrm>
            <a:off x="0" y="6653160"/>
            <a:ext cx="82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am Sale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NYCDOE</cp:lastModifiedBy>
  <dcterms:modified xsi:type="dcterms:W3CDTF">2012-12-06T02:06:56Z</dcterms:modified>
  <cp:revision>105</cp:revision>
  <dc:subject/>
  <dc:title>Profile</dc:title>
</cp:coreProperties>
</file>